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C7E-62C4-4F96-8DB9-E0E25ED8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EA9-9CE1-491D-A677-71E0BF91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AB0-6E9E-4F0B-8D15-BF3094ED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E37-348F-4596-9D62-4D6DCB40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A05-3144-4224-B65C-1BAA2CAD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A85-A471-488E-95D0-ED397D2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74D-94D8-47E0-8356-E5B980B5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AD1-671E-4852-BE1B-0CC97E3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A62-110A-4E09-96EF-488003E7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2B2-A395-44C3-9EAC-2AC6E9E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F89-3262-4EFE-B237-E36E07F5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2D5-1FE0-4CA1-9941-304F71D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1A7-310B-4A48-902D-DD05B601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462640" cy="693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527360" cy="59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65530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162920" cy="161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05320" y="152388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1523880"/>
            <a:ext cx="609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3341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7543800" cy="156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19520" y="12952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952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9513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0958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165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15238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38680" cy="4765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1828800"/>
            <a:ext cx="609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3623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8195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335268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8098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30:02Z</dcterms:created>
  <dc:creator>grahams</dc:creator>
  <dc:description/>
  <dc:language>en-US</dc:language>
  <cp:lastModifiedBy>grahams</cp:lastModifiedBy>
  <dcterms:modified xsi:type="dcterms:W3CDTF">2012-03-20T14:14:50Z</dcterms:modified>
  <cp:revision>3</cp:revision>
  <dc:subject/>
  <dc:title>Slide 1</dc:title>
</cp:coreProperties>
</file>